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CAD-45FC-4A06-B0CB-217C9DFF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BDE-F780-4ABE-B654-36E9F075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0FA-A6C5-42C2-A262-4F2966EA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1C3-EE02-4B66-BF77-47E7F673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41C9-9B40-4BAC-925B-533B7849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75B-44E5-482F-9A19-B53ABF6F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022-A7CE-40EB-B7D6-F9399DC0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C54-0761-4A95-B450-E573A4C3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88A-CE8E-4644-B864-1932AFE9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DC9-8BF0-41B4-9A1F-B80B266E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514-5788-409A-B5AE-F8AD1DA4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74A9-BA51-440F-882C-F68FE7FF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24AC-521E-4839-88B3-E30AA8F7A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a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47640" y="1989000"/>
            <a:ext cx="561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ynaps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33360"/>
            <a:ext cx="3816360" cy="1739880"/>
          </a:xfrm>
          <a:prstGeom prst="rect">
            <a:avLst/>
          </a:prstGeom>
          <a:solidFill>
            <a:srgbClr val="65b9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agram shows how a ner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ulse crosses the g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calle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synap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between ner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700280"/>
            <a:ext cx="3816360" cy="2157120"/>
          </a:xfrm>
          <a:prstGeom prst="rect">
            <a:avLst/>
          </a:prstGeom>
          <a:solidFill>
            <a:srgbClr val="92c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reaches the ner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along one of the 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). It is carried across called dend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ynapse to the next cell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emical transmit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573360"/>
            <a:ext cx="3817800" cy="2431440"/>
          </a:xfrm>
          <a:prstGeom prst="rect">
            <a:avLst/>
          </a:prstGeom>
          <a:solidFill>
            <a:srgbClr val="dce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drugs interfere with the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mitter chemicals are 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HOW THEY M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YOU R  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76500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67280" y="907920"/>
            <a:ext cx="47480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3522600" cy="3495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476280"/>
            <a:ext cx="7921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apses i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356000" y="2428920"/>
            <a:ext cx="4464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0:49:38Z</dcterms:created>
  <dc:creator>sthalliwellp</dc:creator>
  <dc:description/>
  <dc:language>en-US</dc:language>
  <cp:lastModifiedBy>sthalliwellp</cp:lastModifiedBy>
  <dcterms:modified xsi:type="dcterms:W3CDTF">2006-07-18T11:00:45Z</dcterms:modified>
  <cp:revision>2</cp:revision>
  <dc:subject/>
  <dc:title>Synapses</dc:title>
</cp:coreProperties>
</file>